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.jpeg" ContentType="image/jpeg"/>
  <Override PartName="/ppt/media/image28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2.wmf" ContentType="image/x-wmf"/>
  <Override PartName="/ppt/media/image49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46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068-9B7F-4B4B-ABBD-62162828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F00-0431-4505-AC0B-6FDBF982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DE5-B041-424B-BD0C-E0141112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197-F4BA-41A1-94AA-0B2AEDAB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775-AEF8-4B94-89B2-7734C56E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AE5-612D-49B0-BBDA-84B18AB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B2A-5813-481C-AD66-1949179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4F2-2338-4581-937F-3E7B7968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ECB-341B-4B68-8849-B5771167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0B9-9973-4255-9766-2AA787C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931-1F7B-45C6-AB03-97ADBDA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98A-C677-4DC4-A469-5886269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90FB-881C-4206-B653-78FBC1DD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238880" y="81000"/>
            <a:ext cx="1828800" cy="113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143000" y="55627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 Blackb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land College, Dallas,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las County Community College Di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371600" y="5335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 G. Wade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96F-20FF-48DA-938E-9FC0F9C3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zed by ADH, alcohol dehydrogen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 is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cotinamide adenine dinucleot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oxidizes to acetaldehyde, then acetic acid, a normal metab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ol oxidizes to formaldehyde, then formic acid, more toxic than meth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ylene glycol oxidizes to oxalic acid, tox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for poisoning is excess ethano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26D1-95DC-4763-B651-025408FF2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 as a Nucleop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 is weak nucle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rong nucle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-C bond forms, O-H bond brea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333520" cy="266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133720" y="2759040"/>
            <a:ext cx="48006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832-F3B3-4C24-A91F-60FF7801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 as an Electrop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good leaving group unless it is protonated, but most nucleophiles are strong bases which would remov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o tosylate (good leaving group) to react with strong nucleophile (ba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8" descr=""/>
          <p:cNvPicPr/>
          <p:nvPr/>
        </p:nvPicPr>
        <p:blipFill>
          <a:blip r:embed="rId1"/>
          <a:stretch/>
        </p:blipFill>
        <p:spPr>
          <a:xfrm>
            <a:off x="5819760" y="1600200"/>
            <a:ext cx="23335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9" descr=""/>
          <p:cNvPicPr/>
          <p:nvPr/>
        </p:nvPicPr>
        <p:blipFill>
          <a:blip r:embed="rId2"/>
          <a:stretch/>
        </p:blipFill>
        <p:spPr>
          <a:xfrm>
            <a:off x="4600440" y="28195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0"/>
          <p:cNvSpPr/>
          <p:nvPr/>
        </p:nvSpPr>
        <p:spPr>
          <a:xfrm>
            <a:off x="6043680" y="320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5639400" y="48006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-Nuc bond for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-O bond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910-2B46-4F90-BE9E-796F9CE0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Tosylate 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86760" y="4572000"/>
            <a:ext cx="34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oluenesulfonyl chl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Cl, “tosyl chlor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557440" cy="304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45772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114800" cy="3027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6400800" y="4572000"/>
            <a:ext cx="25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osylate 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789-37A0-47EA-9B01-90571F14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Reactions of Tosy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ydroxide produces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yanide produces nit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alide ion produces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koxide ion produce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mmonia produces amin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Al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lka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9D0-EDF4-470E-9304-D94D5840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osylat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D:\WADE\CHAP11\FIGURES\FG11_006.PCT"/>
          <p:cNvPicPr/>
          <p:nvPr/>
        </p:nvPicPr>
        <p:blipFill>
          <a:blip r:embed="rId1">
            <a:lum contrast="24000"/>
          </a:blip>
          <a:srcRect l="0" t="13030" r="0" b="20996"/>
          <a:stretch/>
        </p:blipFill>
        <p:spPr>
          <a:xfrm>
            <a:off x="838080" y="2057400"/>
            <a:ext cx="7621560" cy="335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468200" y="4800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19B-68E2-4A03-8754-AD6EB5FF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e with conc.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ylate, then reduce with LiAl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781680" cy="13082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990720" y="4495680"/>
            <a:ext cx="7536240" cy="1181160"/>
            <a:chOff x="990720" y="4495680"/>
            <a:chExt cx="7536240" cy="1181160"/>
          </a:xfrm>
        </p:grpSpPr>
        <p:pic>
          <p:nvPicPr>
            <p:cNvPr id="130" name="Picture 5" descr=""/>
            <p:cNvPicPr/>
            <p:nvPr/>
          </p:nvPicPr>
          <p:blipFill>
            <a:blip r:embed="rId2"/>
            <a:stretch/>
          </p:blipFill>
          <p:spPr>
            <a:xfrm>
              <a:off x="990720" y="4495680"/>
              <a:ext cx="6858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6"/>
            <p:cNvSpPr/>
            <p:nvPr/>
          </p:nvSpPr>
          <p:spPr>
            <a:xfrm>
              <a:off x="8001720" y="4876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66BA-3244-4367-9F6E-3DC202BA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HB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 of alcohol is proto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ood leav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° and 2° alcohols react with Br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° alcohols react via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914400" y="4191120"/>
            <a:ext cx="7612560" cy="1265040"/>
            <a:chOff x="914400" y="4191120"/>
            <a:chExt cx="7612560" cy="1265040"/>
          </a:xfrm>
        </p:grpSpPr>
        <p:pic>
          <p:nvPicPr>
            <p:cNvPr id="137" name="Picture 4" descr=""/>
            <p:cNvPicPr/>
            <p:nvPr/>
          </p:nvPicPr>
          <p:blipFill>
            <a:blip r:embed="rId1"/>
            <a:stretch/>
          </p:blipFill>
          <p:spPr>
            <a:xfrm>
              <a:off x="914400" y="4191120"/>
              <a:ext cx="685800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5"/>
            <p:cNvSpPr/>
            <p:nvPr/>
          </p:nvSpPr>
          <p:spPr>
            <a:xfrm>
              <a:off x="8001720" y="48006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4D1-8A0D-4C22-8634-D9F5A58A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ide is a weaker nucleophile than brom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bonds strongly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OH, to promote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ide product is insol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as test: 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onc.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lcohols react slowly or not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s react in 1-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s react in less than 1 minu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408-32A0-4619-9AFA-69543AF9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 of H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 does not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yields of 1° and 2° chlo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get alkene instead of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cation intermediate may rearrange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9ED-A919-4C78-8265-24C7D4FD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lcoho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to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to aldehyde,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to form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on synthesis of ether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9804-E52A-484A-9915-6A889F9B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wi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 H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yields with 1° and 2°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chloride (but SO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and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kyl iodide (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stable)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C995-6ECB-41EA-BB43-837789A1A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with PB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46479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bonds to -OH as B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ks backside 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                    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:\Wade ed5 PPT\Graphics\Chapter 11\Reduced\FG11_01-50UN-01.jpg"/>
          <p:cNvPicPr/>
          <p:nvPr/>
        </p:nvPicPr>
        <p:blipFill>
          <a:blip r:embed="rId1"/>
          <a:stretch/>
        </p:blipFill>
        <p:spPr>
          <a:xfrm>
            <a:off x="1231920" y="1143000"/>
            <a:ext cx="66927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E216-2C7C-4E26-B045-ABFE4DEB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onyl Chl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lkyl chloride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bonds to -OH,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O bond breaks as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erred to 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:\WADE\CHAP11\FIGURES\FG11_008.PCT"/>
          <p:cNvPicPr/>
          <p:nvPr/>
        </p:nvPicPr>
        <p:blipFill>
          <a:blip r:embed="rId1"/>
          <a:srcRect l="0" t="20004" r="0" b="36502"/>
          <a:stretch/>
        </p:blipFill>
        <p:spPr>
          <a:xfrm>
            <a:off x="685800" y="1600200"/>
            <a:ext cx="762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1E9-59F1-4861-901C-212CE36E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.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cation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tzef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lecular dehydration produce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temp, 140°C and below, favors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emp, 180°C and above, favors alkene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3F4-D644-4233-8AED-9F05B6A21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419720" cy="16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2667240" cy="71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5486400" y="2666880"/>
            <a:ext cx="3352680" cy="127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4"/>
          <a:stretch/>
        </p:blipFill>
        <p:spPr>
          <a:xfrm>
            <a:off x="1219320" y="365760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5"/>
          <a:stretch/>
        </p:blipFill>
        <p:spPr>
          <a:xfrm>
            <a:off x="228600" y="3809880"/>
            <a:ext cx="3657600" cy="89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6"/>
          <a:stretch/>
        </p:blipFill>
        <p:spPr>
          <a:xfrm>
            <a:off x="3809880" y="3932280"/>
            <a:ext cx="32004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2"/>
          <p:cNvGrpSpPr/>
          <p:nvPr/>
        </p:nvGrpSpPr>
        <p:grpSpPr>
          <a:xfrm>
            <a:off x="5257800" y="4648320"/>
            <a:ext cx="3581280" cy="1450080"/>
            <a:chOff x="5257800" y="4648320"/>
            <a:chExt cx="3581280" cy="1450080"/>
          </a:xfrm>
        </p:grpSpPr>
        <p:pic>
          <p:nvPicPr>
            <p:cNvPr id="175" name="Picture 10" descr=""/>
            <p:cNvPicPr/>
            <p:nvPr/>
          </p:nvPicPr>
          <p:blipFill>
            <a:blip r:embed="rId7"/>
            <a:stretch/>
          </p:blipFill>
          <p:spPr>
            <a:xfrm>
              <a:off x="5257800" y="4648320"/>
              <a:ext cx="358128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11"/>
            <p:cNvSpPr/>
            <p:nvPr/>
          </p:nvSpPr>
          <p:spPr>
            <a:xfrm>
              <a:off x="8078040" y="56386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6B0-B415-43EE-B305-56F8C876D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Diagram, E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E:\Wade ed5 PPT\Graphics\Chapter 11\Reduced\FG11_02-01.jpg"/>
          <p:cNvPicPr/>
          <p:nvPr/>
        </p:nvPicPr>
        <p:blipFill>
          <a:blip r:embed="rId1"/>
          <a:stretch/>
        </p:blipFill>
        <p:spPr>
          <a:xfrm>
            <a:off x="101520" y="1244520"/>
            <a:ext cx="8737560" cy="5613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8389080" y="6019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8AD-3A45-432E-BF18-578BB879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que Reactions of Di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acol re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acid cleavag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C3E1-C676-49DB-A7E8-6E5F4D77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acol Re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acol:  2,3-dimethyl-2,3-butaned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with 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5257800" cy="1438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30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525780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29718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0"/>
          <p:cNvGrpSpPr/>
          <p:nvPr/>
        </p:nvGrpSpPr>
        <p:grpSpPr>
          <a:xfrm>
            <a:off x="5105520" y="5257800"/>
            <a:ext cx="3345120" cy="1438200"/>
            <a:chOff x="5105520" y="5257800"/>
            <a:chExt cx="3345120" cy="1438200"/>
          </a:xfrm>
        </p:grpSpPr>
        <p:pic>
          <p:nvPicPr>
            <p:cNvPr id="195" name="Picture 8" descr=""/>
            <p:cNvPicPr/>
            <p:nvPr/>
          </p:nvPicPr>
          <p:blipFill>
            <a:blip r:embed="rId5"/>
            <a:stretch/>
          </p:blipFill>
          <p:spPr>
            <a:xfrm>
              <a:off x="5105520" y="5257800"/>
              <a:ext cx="2971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9"/>
            <p:cNvSpPr/>
            <p:nvPr/>
          </p:nvSpPr>
          <p:spPr>
            <a:xfrm>
              <a:off x="7925400" y="55627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CCA-7F31-4596-839A-03298E28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Cleav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Gly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roducts formed as from ozonolysis of the corresponding alk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14400" y="2840040"/>
            <a:ext cx="7467480" cy="140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3504960" cy="21524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8"/>
          <p:cNvGrpSpPr/>
          <p:nvPr/>
        </p:nvGrpSpPr>
        <p:grpSpPr>
          <a:xfrm>
            <a:off x="4495680" y="3886200"/>
            <a:ext cx="2126160" cy="2059920"/>
            <a:chOff x="4495680" y="3886200"/>
            <a:chExt cx="2126160" cy="2059920"/>
          </a:xfrm>
        </p:grpSpPr>
        <p:pic>
          <p:nvPicPr>
            <p:cNvPr id="204" name="Picture 6" descr=""/>
            <p:cNvPicPr/>
            <p:nvPr/>
          </p:nvPicPr>
          <p:blipFill>
            <a:blip r:embed="rId3"/>
            <a:stretch/>
          </p:blipFill>
          <p:spPr>
            <a:xfrm>
              <a:off x="4495680" y="3886200"/>
              <a:ext cx="14479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7"/>
            <p:cNvSpPr/>
            <p:nvPr/>
          </p:nvSpPr>
          <p:spPr>
            <a:xfrm>
              <a:off x="6096600" y="5486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807-99D2-426C-90BD-232DAC29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her: alcohol +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yl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es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C3D1-E0E7-46FC-964C-404904CC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2400" cy="122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61048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E:\Wade ed5 PPT\Graphics\Chapter 11\Reduced\FG11_00-01T01-01.jpg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14CF-37A7-4773-A972-D704DD75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her Est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+ Alcohol yields Ester +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ic acid is a cataly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ep is rever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3505320"/>
            <a:ext cx="5105520" cy="10047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143000" y="3886200"/>
            <a:ext cx="1523880" cy="609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4876920" y="3524400"/>
            <a:ext cx="4267080" cy="2345400"/>
            <a:chOff x="4876920" y="3524400"/>
            <a:chExt cx="4267080" cy="2345400"/>
          </a:xfrm>
        </p:grpSpPr>
        <p:pic>
          <p:nvPicPr>
            <p:cNvPr id="217" name="Picture 6" descr=""/>
            <p:cNvPicPr/>
            <p:nvPr/>
          </p:nvPicPr>
          <p:blipFill>
            <a:blip r:embed="rId2"/>
            <a:stretch/>
          </p:blipFill>
          <p:spPr>
            <a:xfrm>
              <a:off x="4876920" y="3524400"/>
              <a:ext cx="426708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7"/>
            <p:cNvSpPr/>
            <p:nvPr/>
          </p:nvSpPr>
          <p:spPr>
            <a:xfrm>
              <a:off x="79246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E93-E8E4-4767-8D57-ED8F38E0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syl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oluenesulfonic acid, Ts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chloride is actually used, Ts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85800" y="3030480"/>
            <a:ext cx="6019920" cy="1389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2362320" y="335268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3581280" y="4267080"/>
            <a:ext cx="5257800" cy="1995480"/>
            <a:chOff x="3581280" y="4267080"/>
            <a:chExt cx="5257800" cy="1995480"/>
          </a:xfrm>
        </p:grpSpPr>
        <p:pic>
          <p:nvPicPr>
            <p:cNvPr id="226" name="Picture 6" descr=""/>
            <p:cNvPicPr/>
            <p:nvPr/>
          </p:nvPicPr>
          <p:blipFill>
            <a:blip r:embed="rId2"/>
            <a:stretch/>
          </p:blipFill>
          <p:spPr>
            <a:xfrm>
              <a:off x="3581280" y="4267080"/>
              <a:ext cx="52578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7"/>
            <p:cNvSpPr/>
            <p:nvPr/>
          </p:nvSpPr>
          <p:spPr>
            <a:xfrm>
              <a:off x="8306640" y="51814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AD45-5651-4984-8A51-955D1809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+ 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4114800" cy="138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905120" y="3200400"/>
            <a:ext cx="1447560" cy="533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581280" cy="14050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9"/>
          <p:cNvGrpSpPr/>
          <p:nvPr/>
        </p:nvGrpSpPr>
        <p:grpSpPr>
          <a:xfrm>
            <a:off x="76320" y="4572000"/>
            <a:ext cx="8991360" cy="1392120"/>
            <a:chOff x="76320" y="4572000"/>
            <a:chExt cx="8991360" cy="1392120"/>
          </a:xfrm>
        </p:grpSpPr>
        <p:pic>
          <p:nvPicPr>
            <p:cNvPr id="236" name="Picture 7" descr=""/>
            <p:cNvPicPr/>
            <p:nvPr/>
          </p:nvPicPr>
          <p:blipFill>
            <a:blip r:embed="rId3"/>
            <a:stretch/>
          </p:blipFill>
          <p:spPr>
            <a:xfrm>
              <a:off x="76320" y="4572000"/>
              <a:ext cx="899136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8"/>
            <p:cNvSpPr/>
            <p:nvPr/>
          </p:nvSpPr>
          <p:spPr>
            <a:xfrm>
              <a:off x="8154000" y="5486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D70-4ECE-4D9D-8216-6361B977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1163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1676520" y="1981080"/>
            <a:ext cx="144756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990720" y="3276720"/>
            <a:ext cx="8152200" cy="1950840"/>
            <a:chOff x="990720" y="3276720"/>
            <a:chExt cx="8152200" cy="1950840"/>
          </a:xfrm>
        </p:grpSpPr>
        <p:pic>
          <p:nvPicPr>
            <p:cNvPr id="244" name="Picture 4" descr=""/>
            <p:cNvPicPr/>
            <p:nvPr/>
          </p:nvPicPr>
          <p:blipFill>
            <a:blip r:embed="rId2"/>
            <a:stretch/>
          </p:blipFill>
          <p:spPr>
            <a:xfrm>
              <a:off x="990720" y="3276720"/>
              <a:ext cx="75438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6"/>
            <p:cNvSpPr/>
            <p:nvPr/>
          </p:nvSpPr>
          <p:spPr>
            <a:xfrm>
              <a:off x="8617680" y="472428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55F8-9532-4CCE-991C-806996C8C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ate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876560" cy="1424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429000" cy="138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7"/>
          <p:cNvGrpSpPr/>
          <p:nvPr/>
        </p:nvGrpSpPr>
        <p:grpSpPr>
          <a:xfrm>
            <a:off x="4343400" y="3048120"/>
            <a:ext cx="3269160" cy="2055600"/>
            <a:chOff x="4343400" y="3048120"/>
            <a:chExt cx="3269160" cy="2055600"/>
          </a:xfrm>
        </p:grpSpPr>
        <p:pic>
          <p:nvPicPr>
            <p:cNvPr id="252" name="Picture 5" descr=""/>
            <p:cNvPicPr/>
            <p:nvPr/>
          </p:nvPicPr>
          <p:blipFill>
            <a:blip r:embed="rId3"/>
            <a:stretch/>
          </p:blipFill>
          <p:spPr>
            <a:xfrm>
              <a:off x="4343400" y="3048120"/>
              <a:ext cx="312408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6"/>
            <p:cNvSpPr/>
            <p:nvPr/>
          </p:nvSpPr>
          <p:spPr>
            <a:xfrm>
              <a:off x="7087320" y="434340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FF7-635E-43A8-8DF4-D089488E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ate Ester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985880" y="57564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1"/>
          <a:stretch/>
        </p:blipFill>
        <p:spPr>
          <a:xfrm>
            <a:off x="1219320" y="1317600"/>
            <a:ext cx="6324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96B-2EA9-4FA6-BE10-2B04AAF1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oxide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 + Na (or NaH) yields sodium alk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° alkyl halide yields ether (Williamson ether syn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152280" y="4114800"/>
            <a:ext cx="8839440" cy="1450440"/>
            <a:chOff x="152280" y="4114800"/>
            <a:chExt cx="8839440" cy="1450440"/>
          </a:xfrm>
        </p:grpSpPr>
        <p:pic>
          <p:nvPicPr>
            <p:cNvPr id="264" name="Picture 4" descr=""/>
            <p:cNvPicPr/>
            <p:nvPr/>
          </p:nvPicPr>
          <p:blipFill>
            <a:blip r:embed="rId1"/>
            <a:stretch/>
          </p:blipFill>
          <p:spPr>
            <a:xfrm>
              <a:off x="152280" y="4114800"/>
              <a:ext cx="88394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Rectangle 5"/>
            <p:cNvSpPr/>
            <p:nvPr/>
          </p:nvSpPr>
          <p:spPr>
            <a:xfrm>
              <a:off x="7773120" y="51055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E5A-17C5-4294-BDF0-A909595A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9E20-8289-45C7-A14A-934DA8AC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for inorganic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d to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d to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: los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ain of O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 gai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ss of O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:  gain or los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H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EE2-6CFB-4156-9485-DD9FEE04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º, 2º, 3º Carb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28"/>
          <p:cNvSpPr/>
          <p:nvPr/>
        </p:nvSpPr>
        <p:spPr>
          <a:xfrm>
            <a:off x="8306640" y="5791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9" descr="E:\Wade ed5 PPT\Graphics\Chapter 11\Reduced\FG11_01-01.jpg"/>
          <p:cNvPicPr/>
          <p:nvPr/>
        </p:nvPicPr>
        <p:blipFill>
          <a:blip r:embed="rId1"/>
          <a:stretch/>
        </p:blipFill>
        <p:spPr>
          <a:xfrm>
            <a:off x="1731960" y="1066680"/>
            <a:ext cx="56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4AF-2F0E-4774-82C4-C002FB04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2°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° alcohol becomes a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 is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reagent probably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change: orange to greenish-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914400" y="4419720"/>
            <a:ext cx="7848720" cy="1678680"/>
            <a:chOff x="914400" y="4419720"/>
            <a:chExt cx="7848720" cy="167868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914400" y="4419720"/>
              <a:ext cx="76960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5"/>
            <p:cNvSpPr/>
            <p:nvPr/>
          </p:nvSpPr>
          <p:spPr>
            <a:xfrm>
              <a:off x="800100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0D91-BF5F-4D8D-AB99-F5C3F300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1°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° alcohol to aldehyde to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stop at aldehy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yridinium chlorochromate (PCC) to limit the oxid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C can also be used to oxidize 2° alcohols to ke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1143000" y="4648320"/>
            <a:ext cx="7391520" cy="1602720"/>
            <a:chOff x="1143000" y="4648320"/>
            <a:chExt cx="7391520" cy="160272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1143000" y="4648320"/>
              <a:ext cx="7391520" cy="13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5"/>
            <p:cNvSpPr/>
            <p:nvPr/>
          </p:nvSpPr>
          <p:spPr>
            <a:xfrm>
              <a:off x="7924680" y="5791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7F9-45D3-4DBE-A280-828DC1C0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° Alcohols Don’t Oxid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lose 2 H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for chromic aci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685800" y="3124080"/>
            <a:ext cx="7621560" cy="3355560"/>
            <a:chOff x="685800" y="3124080"/>
            <a:chExt cx="7621560" cy="3355560"/>
          </a:xfrm>
        </p:grpSpPr>
        <p:pic>
          <p:nvPicPr>
            <p:cNvPr id="83" name="Picture 4" descr="D:\WADE\CHAP11\FIGURES\FG11_004.PCT"/>
            <p:cNvPicPr/>
            <p:nvPr/>
          </p:nvPicPr>
          <p:blipFill>
            <a:blip r:embed="rId1">
              <a:lum contrast="18000"/>
            </a:blip>
            <a:srcRect l="0" t="20004" r="0" b="25720"/>
            <a:stretch/>
          </p:blipFill>
          <p:spPr>
            <a:xfrm>
              <a:off x="685800" y="3124080"/>
              <a:ext cx="76215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5"/>
            <p:cNvSpPr/>
            <p:nvPr/>
          </p:nvSpPr>
          <p:spPr>
            <a:xfrm>
              <a:off x="7239600" y="6019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5BE-F9D0-4E41-B5AB-46CCE6AB2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xidation Re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ns reagent: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yr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es reagent: chromic acid in ac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trong oxidi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ic acid (strong oxidi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, 300°C (industrial dehydroge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rn oxidation:  dimethylsulfoxide, with oxalyl chloride and hindered base, oxidizes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cohols to ketones and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cohols to aldehydes.                          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4T20:23:36Z</dcterms:created>
  <dc:creator>Jo Blackburn</dc:creator>
  <dc:description/>
  <dc:language>en-US</dc:language>
  <cp:lastModifiedBy>Windows User</cp:lastModifiedBy>
  <cp:lastPrinted>2001-04-27T15:47:21Z</cp:lastPrinted>
  <dcterms:modified xsi:type="dcterms:W3CDTF">2010-12-13T17:20:22Z</dcterms:modified>
  <cp:revision>89</cp:revision>
  <dc:subject/>
  <dc:title>Reactions of Alcohols</dc:title>
</cp:coreProperties>
</file>